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media/image10.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15CD4-2013-4399-9E38-885B11912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6E151-66B4-46EF-AF87-3FD596939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FC1DD-88C6-4D63-AA32-6EA910335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2568F-8360-4E0A-85EF-D1352D4F6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E096CE-DC41-434D-85EC-8C4B2ED19A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EB47D-D351-41C5-818A-D78281589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8D788-92E1-41DE-8302-BAAA42E86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A9634-9E3D-4FEC-A652-41E8C80B7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6589A-A9BA-4307-B675-8134B3775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C662B-69F0-441E-8105-39D90CF9B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F9C23-0CF6-413F-8D83-F61EF8CAB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A6A1E-0988-4F07-8493-279DBAABE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3F96C-8B6C-462F-9FB1-DE04CFD0A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AD637-2132-45A5-9CA6-AEA00D8FD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8F020-B4C7-404E-8F45-EA3645D83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5719FB-EBD5-4A04-80CD-8989F34579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2A089E-7ED3-4E76-8CF6-DBADFD2130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A4D2A04-47E3-419D-B237-A19B401F62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89E74EF-2C8F-4699-B1B5-C3D67998E1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E5B2B17-F1B6-4336-8675-04849DB813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9BFA146-52C7-4CAD-B76C-0651AB34DE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96276DC-7899-4B32-B298-383FDB848E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36718-2A5D-45AB-82AE-9E3849597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3FD4867-A3A4-4EA8-801D-6340703DFA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DF9BE3F-F199-4860-99A2-D04FDB948C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1B82280-DA54-499D-A0D4-3D25EDA497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96E114D-5F48-4812-BDB5-C509E2E8ED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976EA47-8C72-405F-B0CC-5D0DA8F826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2EBC8B5-4C0C-4666-BFFA-2F60F98797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D682022-B0C7-46A9-BC8F-9300948111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6DD43F-EED6-4169-883C-01DC1BD171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06A01F-CFA6-4FA9-874B-076604240D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160D3F-E4B1-44AB-A80A-0476DFF4D0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1724E-BD8A-46C1-BD8F-F06ECA007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251979-C19A-44A3-B14B-304C0E7E01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36F1C9-FC9D-42B9-A96B-BE46E667C6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696710-92FC-4761-8499-FB28D734F4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FD9950-2C80-4B74-9A31-68DE2F33A6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F8693A-AF79-43B2-A920-305C59DCFF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65923D-2122-4CB7-8672-947E4F3C91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A40BEB-E97D-4B3E-8EEB-B8A3CA712A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ED8B06-23DF-4213-9B7C-FE136F1D37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AF7BC8-4D4D-4EE9-A0F5-6027B7D92D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D594550-CBD3-4602-8C4F-85CA1F8173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0157D-CEEB-4F4C-8B98-F18C2B801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C4E496D-0717-4943-B819-B8E231FEE4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9B374D7-D74B-48C1-98E8-8A9AD3882B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44ECD12-026A-422B-923E-ECD98C82DF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293D722-B73A-40F9-BB2E-7D7EB3413D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2081BEC-060F-4F59-8137-D6A592E177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8CA3F23-8A0E-4C3A-A927-88908A551C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7C4D13D-A8D6-4483-B1AB-924D8C98E3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AA806A4-03A5-47DA-8BA3-1B9C0120C5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632EB7D-72A1-4F03-974D-8E4F29076B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E525BF7-56B8-44EA-A6D1-6517AB225D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755A0-6690-4777-A007-E299D7DD7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7239765-F155-4E28-A4AF-B4DB5A8F27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1091FE8-42DC-4866-AE69-4CA952DBB8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F03218E-F203-4CB6-84FF-E61A5AF0FB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5F422A8-9F76-4A4D-9049-8B032FF7EF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5E17D02-BAD3-4030-A973-6059FFFD1C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7F48F59-4105-4E08-96A3-368216DFCC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1C54F90-FA1F-492C-9DA1-5615CBD25A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4806744-79F6-4B55-8B28-D8941331AF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9710414-86DB-4EFD-A882-EE30F018D7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CE49BCB-96B5-40D1-AF46-3A6C8CD034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89919-A887-49E4-AEA8-96CDAD2DE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8793985-213A-4D25-94DE-323D393A12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6C8EF6A-9EB8-4793-9064-597C373885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274EE7E-9644-4375-A46C-74B40C4266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F18260B-BE50-4348-91B3-0DF6BCA77A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AA2F813-E7D6-4A43-8A52-5EF9F87F5C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BBDB30F-32E8-4B1B-946B-7F3E28B10A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1548B0C-129F-45C0-AA4C-176AA2334D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649C2F9-F156-48C2-870D-A0304DEFA0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C0F09E2-7AD8-4CB3-871C-BFF7549CA0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952AE7E-2041-4199-B2E7-608D7C5D98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65D1D-8A2B-4C96-A30A-B28460640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CEEBAE5-7F71-4A3B-AC5B-485E54A44B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E7B3BEF-DCA4-4136-AA0B-98FE6A28D3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82DE923-944F-47A9-9387-66FEAF3B7C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723917B-912D-459A-A264-6E68228497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3A8C710-0237-4C44-BA9D-686078AE5E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60821-4788-4713-BC1E-8A7E85567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719F3-B8AA-4333-9EAF-2666E5AB487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2575E-9601-41CB-85B0-1DBDB85DFDC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75790-F66F-4A52-B6A0-30EFFEF8589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BB328-36E8-4C5F-B861-265216CEDB0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68BC0-8D75-478F-8045-BFD561A19D2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C9C43-FDA1-4363-B752-73B75A42CC0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3820E-E268-41D0-B88A-74C72FF5C28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456840"/>
            <a:ext cx="7772400" cy="314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What are Sedimentary Rocks?</a:t>
            </a:r>
            <a:br>
              <a:rPr sz="2900"/>
            </a:br>
            <a:br>
              <a:rPr sz="2900"/>
            </a:br>
            <a:r>
              <a:rPr b="1" lang="en-US" sz="2900" spc="-1" strike="noStrike">
                <a:solidFill>
                  <a:srgbClr val="575f6d"/>
                </a:solidFill>
                <a:latin typeface="Century Schoolbook"/>
              </a:rPr>
              <a:t>By:   Caitlin Cerillo</a:t>
            </a:r>
            <a:br>
              <a:rPr sz="2900"/>
            </a:br>
            <a:r>
              <a:rPr b="1" lang="en-US" sz="2900" spc="-1" strike="noStrike">
                <a:solidFill>
                  <a:srgbClr val="575f6d"/>
                </a:solidFill>
                <a:latin typeface="Century Schoolbook"/>
              </a:rPr>
              <a:t>         TJ Truss</a:t>
            </a:r>
            <a:br>
              <a:rPr sz="2900"/>
            </a:br>
            <a:r>
              <a:rPr b="1" lang="en-US" sz="2900" spc="-1" strike="noStrike">
                <a:solidFill>
                  <a:srgbClr val="575f6d"/>
                </a:solidFill>
                <a:latin typeface="Century Schoolbook"/>
              </a:rPr>
              <a:t>	</a:t>
            </a:r>
            <a:r>
              <a:rPr b="1" lang="en-US" sz="2900" spc="-1" strike="noStrike">
                <a:solidFill>
                  <a:srgbClr val="575f6d"/>
                </a:solidFill>
                <a:latin typeface="Century Schoolbook"/>
              </a:rPr>
              <a:t>Logan Milstead</a:t>
            </a:r>
            <a:br>
              <a:rPr sz="2900"/>
            </a:br>
            <a:r>
              <a:rPr b="1" lang="en-US" sz="2900" spc="-1" strike="noStrike">
                <a:solidFill>
                  <a:srgbClr val="575f6d"/>
                </a:solidFill>
                <a:latin typeface="Century Schoolbook"/>
              </a:rPr>
              <a:t>	</a:t>
            </a:r>
            <a:r>
              <a:rPr b="1" lang="en-US" sz="2900" spc="-1" strike="noStrike">
                <a:solidFill>
                  <a:srgbClr val="575f6d"/>
                </a:solidFill>
                <a:latin typeface="Century Schoolbook"/>
              </a:rPr>
              <a:t>Katilyn Hall</a:t>
            </a:r>
            <a:endParaRPr b="0" lang="en-US" sz="2900" spc="-1" strike="noStrike">
              <a:solidFill>
                <a:srgbClr val="575f6d"/>
              </a:solidFill>
              <a:latin typeface="Century Schoolbook"/>
            </a:endParaRPr>
          </a:p>
        </p:txBody>
      </p:sp>
      <p:sp>
        <p:nvSpPr>
          <p:cNvPr id="352" name="PlaceHolder 2"/>
          <p:cNvSpPr>
            <a:spLocks noGrp="1"/>
          </p:cNvSpPr>
          <p:nvPr>
            <p:ph type="subTitle"/>
          </p:nvPr>
        </p:nvSpPr>
        <p:spPr>
          <a:xfrm rot="10800000">
            <a:off x="1371600" y="38862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75f6d"/>
                </a:solidFill>
                <a:latin typeface="Century Schoolbook"/>
              </a:rPr>
              <a:t>   </a:t>
            </a:r>
            <a:endParaRPr b="0" lang="en-US" sz="54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entury Schoolbook"/>
            </a:endParaRPr>
          </a:p>
        </p:txBody>
      </p:sp>
      <p:pic>
        <p:nvPicPr>
          <p:cNvPr id="353" name="Picture 4" descr="http://www.enviro-explorers.com/rocksandroads_122302/unit1/images/4aggregate.jpg"/>
          <p:cNvPicPr/>
          <p:nvPr/>
        </p:nvPicPr>
        <p:blipFill>
          <a:blip r:embed="rId1"/>
          <a:stretch/>
        </p:blipFill>
        <p:spPr>
          <a:xfrm>
            <a:off x="-115920" y="4017960"/>
            <a:ext cx="9375840" cy="297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AT ARE SEDIMENTARY ROCKS?</a:t>
            </a:r>
            <a:endParaRPr b="0" lang="en-US" sz="3000" spc="-1" strike="noStrike">
              <a:solidFill>
                <a:srgbClr val="575f6d"/>
              </a:solidFill>
              <a:latin typeface="Century Schoolbook"/>
            </a:endParaRPr>
          </a:p>
        </p:txBody>
      </p:sp>
      <p:sp>
        <p:nvSpPr>
          <p:cNvPr id="35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dimentary rocks are rocks that are layered.</a:t>
            </a:r>
            <a:endParaRPr b="0" lang="en-US" sz="2400" spc="-1" strike="noStrike">
              <a:solidFill>
                <a:srgbClr val="000000"/>
              </a:solidFill>
              <a:latin typeface="Century Schoolbook"/>
            </a:endParaRPr>
          </a:p>
        </p:txBody>
      </p:sp>
      <p:pic>
        <p:nvPicPr>
          <p:cNvPr id="356" name="Picture 2" descr="coal"/>
          <p:cNvPicPr/>
          <p:nvPr/>
        </p:nvPicPr>
        <p:blipFill>
          <a:blip r:embed="rId1"/>
          <a:stretch/>
        </p:blipFill>
        <p:spPr>
          <a:xfrm>
            <a:off x="1752480" y="2438280"/>
            <a:ext cx="5334120" cy="400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HOW ARE SEDIMENTARY ROCKS FORMED?</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en mountains are first formed they are tall jagged like the rocky mountains on The West Coast of North America. What happens in the meantime is that lot’s of rocks get warn away due to Erosion.</a:t>
            </a:r>
            <a:endParaRPr b="0" lang="en-US" sz="2400" spc="-1" strike="noStrike">
              <a:solidFill>
                <a:srgbClr val="000000"/>
              </a:solidFill>
              <a:latin typeface="Century Schoolbook"/>
            </a:endParaRPr>
          </a:p>
        </p:txBody>
      </p:sp>
      <p:pic>
        <p:nvPicPr>
          <p:cNvPr id="359" name="Picture 6" descr="http://www.bbc.co.uk/schools/gcsebitesize/science/images/gcsechem_53.jpg"/>
          <p:cNvPicPr/>
          <p:nvPr/>
        </p:nvPicPr>
        <p:blipFill>
          <a:blip r:embed="rId1"/>
          <a:stretch/>
        </p:blipFill>
        <p:spPr>
          <a:xfrm>
            <a:off x="1371600" y="4267080"/>
            <a:ext cx="6400800" cy="259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152280"/>
            <a:ext cx="8686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NAME FOUR TYPES OF DIFFERENT SEDIMENTARY ROCKS.</a:t>
            </a:r>
            <a:endParaRPr b="0" lang="en-US" sz="2700" spc="-1" strike="noStrike">
              <a:solidFill>
                <a:srgbClr val="575f6d"/>
              </a:solidFill>
              <a:latin typeface="Century Schoolbook"/>
            </a:endParaRPr>
          </a:p>
        </p:txBody>
      </p:sp>
      <p:sp>
        <p:nvSpPr>
          <p:cNvPr id="361" name=""/>
          <p:cNvSpPr txBox="1"/>
          <p:nvPr/>
        </p:nvSpPr>
        <p:spPr>
          <a:xfrm>
            <a:off x="304920" y="1600200"/>
            <a:ext cx="8686800" cy="44798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limestone 2:black shale 3:sandstone 4:coal</a:t>
            </a:r>
            <a:endParaRPr b="0" lang="en-US" sz="2400" spc="-1" strike="noStrike">
              <a:solidFill>
                <a:srgbClr val="000000"/>
              </a:solidFill>
              <a:latin typeface="Century Schoolbook"/>
            </a:endParaRPr>
          </a:p>
        </p:txBody>
      </p:sp>
      <p:pic>
        <p:nvPicPr>
          <p:cNvPr id="362" name="Picture 2" descr="shale"/>
          <p:cNvPicPr/>
          <p:nvPr/>
        </p:nvPicPr>
        <p:blipFill>
          <a:blip r:embed="rId1"/>
          <a:stretch/>
        </p:blipFill>
        <p:spPr>
          <a:xfrm>
            <a:off x="0" y="4572000"/>
            <a:ext cx="4038480" cy="2286000"/>
          </a:xfrm>
          <a:prstGeom prst="rect">
            <a:avLst/>
          </a:prstGeom>
          <a:ln w="0">
            <a:noFill/>
          </a:ln>
        </p:spPr>
      </p:pic>
      <p:pic>
        <p:nvPicPr>
          <p:cNvPr id="363" name="Picture 4" descr="chert limestone conglomerate"/>
          <p:cNvPicPr/>
          <p:nvPr/>
        </p:nvPicPr>
        <p:blipFill>
          <a:blip r:embed="rId2"/>
          <a:stretch/>
        </p:blipFill>
        <p:spPr>
          <a:xfrm>
            <a:off x="4876920" y="4495680"/>
            <a:ext cx="4267080" cy="2362320"/>
          </a:xfrm>
          <a:prstGeom prst="rect">
            <a:avLst/>
          </a:prstGeom>
          <a:ln w="0">
            <a:noFill/>
          </a:ln>
        </p:spPr>
      </p:pic>
      <p:pic>
        <p:nvPicPr>
          <p:cNvPr id="364" name="Picture 6" descr="limestone"/>
          <p:cNvPicPr/>
          <p:nvPr/>
        </p:nvPicPr>
        <p:blipFill>
          <a:blip r:embed="rId3"/>
          <a:stretch/>
        </p:blipFill>
        <p:spPr>
          <a:xfrm>
            <a:off x="4876920" y="2666880"/>
            <a:ext cx="4267080" cy="1714680"/>
          </a:xfrm>
          <a:prstGeom prst="rect">
            <a:avLst/>
          </a:prstGeom>
          <a:ln w="0">
            <a:noFill/>
          </a:ln>
        </p:spPr>
      </p:pic>
      <p:pic>
        <p:nvPicPr>
          <p:cNvPr id="365" name="Picture 8" descr="sandstone"/>
          <p:cNvPicPr/>
          <p:nvPr/>
        </p:nvPicPr>
        <p:blipFill>
          <a:blip r:embed="rId4"/>
          <a:stretch/>
        </p:blipFill>
        <p:spPr>
          <a:xfrm>
            <a:off x="0" y="2666880"/>
            <a:ext cx="4343400" cy="171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04920" y="152280"/>
            <a:ext cx="8686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WHAT LOCATION IN THE UNITED STATES ARE SEDIMENTARY  MOSTLY FOUND?</a:t>
            </a:r>
            <a:endParaRPr b="0" lang="en-US" sz="2700" spc="-1" strike="noStrike">
              <a:solidFill>
                <a:srgbClr val="575f6d"/>
              </a:solidFill>
              <a:latin typeface="Century Schoolbook"/>
            </a:endParaRPr>
          </a:p>
        </p:txBody>
      </p:sp>
      <p:sp>
        <p:nvSpPr>
          <p:cNvPr id="367" name=""/>
          <p:cNvSpPr txBox="1"/>
          <p:nvPr/>
        </p:nvSpPr>
        <p:spPr>
          <a:xfrm>
            <a:off x="761760" y="1600200"/>
            <a:ext cx="8001000" cy="452592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dimentary rocks are mostly found at the bottom of oceans and lakes. They are found all over the United States.</a:t>
            </a:r>
            <a:endParaRPr b="0" lang="en-US" sz="2400" spc="-1" strike="noStrike">
              <a:solidFill>
                <a:srgbClr val="000000"/>
              </a:solidFill>
              <a:latin typeface="Century Schoolbook"/>
            </a:endParaRPr>
          </a:p>
        </p:txBody>
      </p:sp>
      <p:pic>
        <p:nvPicPr>
          <p:cNvPr id="368" name="Picture 2" descr="chert"/>
          <p:cNvPicPr/>
          <p:nvPr/>
        </p:nvPicPr>
        <p:blipFill>
          <a:blip r:embed="rId1"/>
          <a:stretch/>
        </p:blipFill>
        <p:spPr>
          <a:xfrm>
            <a:off x="1752480" y="3352680"/>
            <a:ext cx="6034320" cy="310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360"/>
            <a:ext cx="8686800" cy="1066680"/>
          </a:xfrm>
          <a:prstGeom prst="rect">
            <a:avLst/>
          </a:prstGeom>
          <a:noFill/>
          <a:ln w="9360">
            <a:solidFill>
              <a:srgbClr val="fe8637"/>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d0d0d"/>
                </a:solidFill>
                <a:latin typeface="Century Schoolbook"/>
              </a:rPr>
              <a:t>HOW ARE SEDIMENTARY ROCKS USED IN EVERYDAY LIFE?</a:t>
            </a:r>
            <a:endParaRPr b="0" lang="en-US" sz="3000" spc="-1" strike="noStrike">
              <a:solidFill>
                <a:srgbClr val="575f6d"/>
              </a:solidFill>
              <a:latin typeface="Century Schoolbook"/>
            </a:endParaRPr>
          </a:p>
        </p:txBody>
      </p:sp>
      <p:sp>
        <p:nvSpPr>
          <p:cNvPr id="37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re are several different ways that people use sedimentary rocks. The chalk used in classrooms around the world is a type of sedimentary rock. Limestone is a sedimentary rock that is used in concrete, building stones, antacids, soil conditioner, and steel making. Coal is another sedimentary rock which is used to produce heat and electricity. Shale is used to make brick. Sandstone is used in construction and glass production. </a:t>
            </a:r>
            <a:br>
              <a:rPr sz="2800"/>
            </a:br>
            <a:r>
              <a:rPr b="0" lang="en-US" sz="2800" spc="-1" strike="noStrike">
                <a:solidFill>
                  <a:srgbClr val="000000"/>
                </a:solidFill>
                <a:latin typeface="Century Schoolbook"/>
              </a:rPr>
              <a:t>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28600"/>
            <a:ext cx="8686800" cy="38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WHAT ARE TWO OTHER INTERESTING FACTS ABOUT SEDIMENTARY ROCKS?</a:t>
            </a:r>
            <a:endParaRPr b="0" lang="en-US" sz="2700" spc="-1" strike="noStrike">
              <a:solidFill>
                <a:srgbClr val="575f6d"/>
              </a:solidFill>
              <a:latin typeface="Century Schoolbook"/>
            </a:endParaRPr>
          </a:p>
        </p:txBody>
      </p:sp>
      <p:sp>
        <p:nvSpPr>
          <p:cNvPr id="372" name=""/>
          <p:cNvSpPr txBox="1"/>
          <p:nvPr/>
        </p:nvSpPr>
        <p:spPr>
          <a:xfrm>
            <a:off x="304920" y="1523880"/>
            <a:ext cx="8686800" cy="452592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dimentary rocks often have fossils in them. The sedimentary rocks are made of mountains. </a:t>
            </a:r>
            <a:endParaRPr b="0" lang="en-US" sz="2400" spc="-1" strike="noStrike">
              <a:solidFill>
                <a:srgbClr val="000000"/>
              </a:solidFill>
              <a:latin typeface="Century Schoolbook"/>
            </a:endParaRPr>
          </a:p>
        </p:txBody>
      </p:sp>
      <p:pic>
        <p:nvPicPr>
          <p:cNvPr id="373" name="Picture 4" descr="http://www.geolsoc.org.uk/webdav/site/GSL/shared/images/education_and_careers/RockCycle/Sedimentary/Conglomerate%20uses.jpg"/>
          <p:cNvPicPr/>
          <p:nvPr/>
        </p:nvPicPr>
        <p:blipFill>
          <a:blip r:embed="rId1"/>
          <a:stretch/>
        </p:blipFill>
        <p:spPr>
          <a:xfrm>
            <a:off x="-66600" y="2992320"/>
            <a:ext cx="9277200" cy="782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0"/>
            <a:ext cx="8686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HOW DOES THIS ROCK IN MY HAND FIT INTO MY LIFE?</a:t>
            </a:r>
            <a:endParaRPr b="0" lang="en-US" sz="3000" spc="-1" strike="noStrike">
              <a:solidFill>
                <a:srgbClr val="575f6d"/>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Rocks fit into my life by providing me with salt to put on my food, and by providing me with roads to travel on. Rocks are used to build schools, houses, and other types of buildings. These buildings provide us with shelte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QUESTIONS OR COMMENTS?</a:t>
            </a:r>
            <a:endParaRPr b="0" lang="en-US" sz="3000" spc="-1" strike="noStrike">
              <a:solidFill>
                <a:srgbClr val="575f6d"/>
              </a:solidFill>
              <a:latin typeface="Century Schoolbook"/>
            </a:endParaRPr>
          </a:p>
        </p:txBody>
      </p:sp>
      <p:sp>
        <p:nvSpPr>
          <p:cNvPr id="37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8" name="Picture 5" descr="arg-qmark-50"/>
          <p:cNvPicPr/>
          <p:nvPr/>
        </p:nvPicPr>
        <p:blipFill>
          <a:blip r:embed="rId1"/>
          <a:stretch/>
        </p:blipFill>
        <p:spPr>
          <a:xfrm>
            <a:off x="3352680" y="1905120"/>
            <a:ext cx="312444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7:49:28Z</dcterms:created>
  <dc:creator>stucaitlingc11172001</dc:creator>
  <dc:description/>
  <dc:language>en-US</dc:language>
  <cp:lastModifiedBy>stucaitlingc11172001</cp:lastModifiedBy>
  <dcterms:modified xsi:type="dcterms:W3CDTF">2010-10-19T18:44:22Z</dcterms:modified>
  <cp:revision>28</cp:revision>
  <dc:subject/>
  <dc:title>What are Sedimentary Rocks</dc:title>
</cp:coreProperties>
</file>